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78273"/>
        <c:axId val="1703591"/>
      </c:barChart>
      <c:catAx>
        <c:axId val="55778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3591"/>
        <c:crosses val="autoZero"/>
        <c:auto val="1"/>
        <c:lblAlgn val="ctr"/>
        <c:lblOffset val="100"/>
        <c:noMultiLvlLbl val="0"/>
      </c:catAx>
      <c:valAx>
        <c:axId val="17035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78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11D9-B5A6-4236-A952-210F230B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550A-28A9-42D6-9A62-FCF73178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02B-CFF6-41F7-AAB5-7E2A3569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6BA-1685-4E3C-B33E-1AB2A226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AC2-DFF3-4CA1-9D45-08AE8C2C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D4B-4C60-4428-8C65-367ABF84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74E-8F1F-43AE-8FEA-68FABDBC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A46-2E08-4F62-A7A1-1AE80B8C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2C84-BBF5-432C-BD9D-252220F1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995-133E-4460-B5C8-F0D8A339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1123-EBB9-4AF5-89FF-D5435561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195D-41DE-4084-A784-B3F7A8B2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E7E32-5921-49DD-904F-9A7BCCF23C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