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8800"/>
        <c:axId val="19396699"/>
      </c:barChart>
      <c:catAx>
        <c:axId val="6048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6699"/>
        <c:crosses val="autoZero"/>
        <c:auto val="1"/>
        <c:lblAlgn val="ctr"/>
        <c:lblOffset val="100"/>
        <c:noMultiLvlLbl val="0"/>
      </c:catAx>
      <c:valAx>
        <c:axId val="19396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8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ACF-A052-4C8B-8D45-4998ABAB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777-5DE0-45FE-83DD-2212A148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FC7-4520-44C4-AE09-8622EDCD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F39-79AE-4CE9-BF6D-48725EA3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387-DA83-40A9-8BCE-2329B8F3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5FF-E88C-400B-AF03-88BBE43B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C18-1FB8-4A97-9246-7EED73B6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A31-A10B-449B-AB91-9735E873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1BC-76A8-4C48-A644-E4CCA82F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2E6-3F06-4F81-A942-70C820DD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CD3-EC4A-4E3A-9F80-786CAB1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B0A-DBAA-4482-AB64-EE29ADFA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20970-D1EB-4D0C-8E5B-AEB9EF58E8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