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87966"/>
        <c:axId val="86478029"/>
      </c:barChart>
      <c:catAx>
        <c:axId val="66087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8029"/>
        <c:crosses val="autoZero"/>
        <c:auto val="1"/>
        <c:lblAlgn val="ctr"/>
        <c:lblOffset val="100"/>
        <c:noMultiLvlLbl val="0"/>
      </c:catAx>
      <c:valAx>
        <c:axId val="86478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87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3CA-AF18-49EF-984F-60DB94A7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E34-1193-4F69-9E46-B7CF3446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526-2B72-4899-A2BA-E880F280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592-C9BD-458D-95EF-828C1249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D81-8B48-4B3D-A8DB-2ECB99E3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E1B-95FE-40AC-91D2-AD9F81CA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1D6-C563-4D79-9A50-7814DE26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254-2942-456E-B260-53245F07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1BC-CB51-4B3F-8ED2-A15627DC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F6C-8DEC-44CA-BD0B-FA34928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EB5-CFC7-4763-80A4-377112B7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D76-124A-4A3F-88FB-CAD97AEE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6C37C-CA29-4520-9422-01478EA2DD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