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43083"/>
        <c:axId val="41951608"/>
      </c:barChart>
      <c:catAx>
        <c:axId val="94543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51608"/>
        <c:crosses val="autoZero"/>
        <c:auto val="1"/>
        <c:lblAlgn val="ctr"/>
        <c:lblOffset val="100"/>
        <c:noMultiLvlLbl val="0"/>
      </c:catAx>
      <c:valAx>
        <c:axId val="419516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43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72F-3075-4901-9D6D-FC66296E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A527-2FF9-4581-A47B-09668D9E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E201-A750-4E83-BE7D-6E14B3B6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5C7-EFD8-4DBD-869E-10D6DCE0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609-ADD6-4C12-94AB-A37ED867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AD2-C6D0-4E13-8C47-46B4FE1B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E24-AD46-43DF-A63A-C8A50BEA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274-3369-4B8D-9C52-737B2F30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BA98-C419-475E-8A3D-9FFEA382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677-F53E-4662-93AF-EB0F0695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200A-B04C-4E86-A081-66ED655D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1D9-43DD-41E8-BFAE-1B69A67D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838F0-1933-4CBB-AF6C-77A72E85C1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