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96217"/>
        <c:axId val="9821667"/>
      </c:barChart>
      <c:catAx>
        <c:axId val="207962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1667"/>
        <c:crosses val="autoZero"/>
        <c:auto val="1"/>
        <c:lblAlgn val="ctr"/>
        <c:lblOffset val="100"/>
        <c:noMultiLvlLbl val="0"/>
      </c:catAx>
      <c:valAx>
        <c:axId val="9821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962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B580-AB6B-4861-BBBB-55CF40A4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EB1-58DD-495E-ACAD-3268B881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EF7A-C21E-4B06-A6C8-22E78F26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A1D-2ADE-48B4-B281-9504996E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E7B-274F-4ED6-BAB4-BD86238D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E86-876C-45DC-820D-CFAA1191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5CF-B9D5-4876-B2E8-35CA32A6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C36-150B-4B99-8D13-670C3569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515-5A39-4387-96FB-4DD9100F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7CC-67B7-4709-AFEF-3D335F6E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277-DA8B-4DE9-A442-3677E4BE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EB9-3117-4E28-9A3D-6E93943E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B9C86-BF77-41F4-B1D9-5700B9E8EE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