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386319"/>
        <c:axId val="61241528"/>
      </c:barChart>
      <c:catAx>
        <c:axId val="963863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41528"/>
        <c:crosses val="autoZero"/>
        <c:auto val="1"/>
        <c:lblAlgn val="ctr"/>
        <c:lblOffset val="100"/>
        <c:noMultiLvlLbl val="0"/>
      </c:catAx>
      <c:valAx>
        <c:axId val="612415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863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C77A-FB6F-474C-A6EF-3ACB49B05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6E66-F49B-4A12-856E-785A870D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57B9-AB89-49B2-879F-61D234B37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C6BD-9C12-41F0-8CF3-63838DB38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0513-19D5-4F09-94C2-B22712B9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47F1-C2C9-4736-8F98-137A2189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370B-8168-4CBE-A383-FA8269A4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B09D-5F96-416E-ACF2-EEA803DF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A498-0FA3-4EFE-B588-01BB74B5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20F1-C18A-413A-BA8E-B33158BD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463E-061D-4C5D-AB61-0F97C991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B9AB-4BD0-49EF-B3CB-91F41846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B27E5-92F3-4FE3-9F13-3D6161A685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