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07103"/>
        <c:axId val="6329424"/>
      </c:barChart>
      <c:catAx>
        <c:axId val="54907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424"/>
        <c:crosses val="autoZero"/>
        <c:auto val="1"/>
        <c:lblAlgn val="ctr"/>
        <c:lblOffset val="100"/>
        <c:noMultiLvlLbl val="0"/>
      </c:catAx>
      <c:valAx>
        <c:axId val="6329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07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C93-D815-4595-B66A-A360ED87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69E-6DD2-4B13-A7D4-6AC0DA8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32C-80CE-4E6A-8A6F-B8C34141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519-48B7-459D-AE1B-EC77423D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5C1-66CC-4203-8A83-E4A0A34F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B45-FC3A-4725-B341-02F488D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46C-2436-4142-93F7-5383C63A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FCD-D12A-4962-8B64-0128D97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A7D-244A-42CA-AA7F-2B40CC7D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148-AC3F-454E-B109-0E789E4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FF0-9370-4603-B7A1-D962AB0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06D-4508-4C26-911E-A99DC4F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5990-E605-4D95-8DDE-A66375E142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