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30387"/>
        <c:axId val="65169706"/>
      </c:barChart>
      <c:catAx>
        <c:axId val="65830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69706"/>
        <c:crosses val="autoZero"/>
        <c:auto val="1"/>
        <c:lblAlgn val="ctr"/>
        <c:lblOffset val="100"/>
        <c:noMultiLvlLbl val="0"/>
      </c:catAx>
      <c:valAx>
        <c:axId val="65169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30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00D-102D-4664-B889-05F0AF13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FE5-4E2B-499E-B249-5C15F6B9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E28-6D57-45AF-8A6F-42A38800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9EF-F506-4FA3-8268-359320A1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65F-8B02-416B-93B0-5F8EF62E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789-4AB8-4C6A-9E4F-57BCCBD0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A42-FBC5-460B-B7CC-23EB56E3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783-FCA2-4285-872A-EB5E1C04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651-E532-4A40-AE58-0B5F0389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9F7-4BD9-49B4-A822-75EAF7FA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DF1-B639-4133-A17A-E17F55DB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531-922F-403F-8D1E-23A50701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CF45E-0EB0-4B46-9D65-EF16602592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