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7862"/>
        <c:axId val="49617700"/>
      </c:barChart>
      <c:catAx>
        <c:axId val="2457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17700"/>
        <c:crosses val="autoZero"/>
        <c:auto val="1"/>
        <c:lblAlgn val="ctr"/>
        <c:lblOffset val="100"/>
        <c:noMultiLvlLbl val="0"/>
      </c:catAx>
      <c:valAx>
        <c:axId val="49617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8DB-2F0D-410D-8C30-C7BD62EA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46D-CE75-4133-BDFE-A6FE0C4E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C5E-F4E2-4545-8971-B1D534A4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095-6B52-4FB9-9B09-E0CA740A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B49-EC44-4751-A89E-4A865140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B44-3933-409A-872B-77E23E53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510-746E-4B2E-8760-3BF769A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E74-00AA-465D-851C-36231F6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CBB-7A22-4860-9070-7FE10CE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B09-AD32-4DE1-B863-FC7845C4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34-94A4-4953-8289-7B4782F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03B-D43B-4F80-85F0-42A1CB4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999CD-64EA-476B-A3B8-2DB63530BB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