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20155"/>
        <c:axId val="14199623"/>
      </c:barChart>
      <c:catAx>
        <c:axId val="1692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99623"/>
        <c:crosses val="autoZero"/>
        <c:auto val="1"/>
        <c:lblAlgn val="ctr"/>
        <c:lblOffset val="100"/>
        <c:noMultiLvlLbl val="0"/>
      </c:catAx>
      <c:valAx>
        <c:axId val="14199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2CE-F132-43B9-AE08-3EED5960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3FC-D27B-41C1-91FD-5A79A7EC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C6B-22FB-4393-8854-DF3EFDFF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45A-AC26-4A8E-AC26-8E100EB5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611-2058-43E9-8A35-378865E9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DD9-8C12-4AFA-AF9B-BC0A1EEC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69D-8152-4F84-8A0F-FE14EDB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B73-8B3B-43B2-9881-C1FD22D0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DE5-54AC-4564-AC04-8F660E2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77E-A9BB-4D9C-B666-A3A7A51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188-1247-4294-8B6A-229660F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093-570F-47BE-9372-BFA585B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809C-F9DD-4C58-8E89-99A086E6B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