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9941"/>
        <c:axId val="82206746"/>
      </c:barChart>
      <c:catAx>
        <c:axId val="42639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06746"/>
        <c:crosses val="autoZero"/>
        <c:auto val="1"/>
        <c:lblAlgn val="ctr"/>
        <c:lblOffset val="100"/>
        <c:noMultiLvlLbl val="0"/>
      </c:catAx>
      <c:valAx>
        <c:axId val="82206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9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CE1-AB81-4025-87D2-D5FDBA8F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7CF-33C9-4769-9C4B-3C3C401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94F-A74B-4D6A-9C30-9B846189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DC3-11F7-4EBF-B3D0-54E7E757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7BB-7C02-43A6-A2B4-15D87DBA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0D2-A9C4-4DB3-A688-94858390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A66-58E8-44CF-84C2-F80F9B5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F84-8AE4-4213-B098-94044CF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319-20D2-445B-AA53-DC5C880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3CF-0222-463B-ABC2-9635E91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A60-F62B-45ED-AF79-6004514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129-73D8-4FA8-A679-252A7D76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EC6DB-E808-4D83-94C8-C6DEFB3A7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