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91085"/>
        <c:axId val="67153886"/>
      </c:barChart>
      <c:catAx>
        <c:axId val="595910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53886"/>
        <c:crosses val="autoZero"/>
        <c:auto val="1"/>
        <c:lblAlgn val="ctr"/>
        <c:lblOffset val="100"/>
        <c:noMultiLvlLbl val="0"/>
      </c:catAx>
      <c:valAx>
        <c:axId val="67153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910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964-CDAD-41E5-A47C-A4AE0C68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9B6-6BD3-4CDC-93D6-34FEDC4E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4F4-A02F-4168-A795-C8D42567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102-BEA8-4E4C-B738-7C539014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22E-0AD6-46B0-95BE-F1A496C1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D1F-162E-45FE-A8BF-2F521C06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CBD-9674-40C5-B73F-58C6F2E3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532-0088-4CC8-B359-E32F8EE4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509-4FAA-4E08-9458-8EE97708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76F-38FA-4C84-9D75-27F107A7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AA0-02F5-41F9-A820-B38FD2C9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2AE-A2CD-407E-9A91-804F1AD3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9F568-892D-4639-971C-A2A232E254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