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7003746"/>
        <c:axId val="91182232"/>
      </c:barChart>
      <c:catAx>
        <c:axId val="5700374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1182232"/>
        <c:crosses val="autoZero"/>
        <c:auto val="1"/>
        <c:lblAlgn val="ctr"/>
        <c:lblOffset val="100"/>
        <c:noMultiLvlLbl val="0"/>
      </c:catAx>
      <c:valAx>
        <c:axId val="9118223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700374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509E0-D9AE-4A94-9573-DE03A03BF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DA840-7CE4-41DD-A8ED-721A1BB26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48F47-CE5B-4B37-8956-9A7D08C5C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07DFD-C1F2-4394-B2CB-BDC8F960C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27D2D-8F9B-4A47-9288-0EE6C89A1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EE9D5-8304-4DEB-AF3C-606F19B0B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6BE93-B694-4468-93E6-F6A009B16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F9AEC-2663-421F-AA76-48FCED85B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521C4-6B15-44FE-9A0D-5670E3D7D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0BCB0-8542-4751-B863-D2177F331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4AA3B-F863-4E40-8DD2-93BD964D9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4EA31-ED51-4A59-A486-F8627F8AB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A0DEC5-5229-4E12-A00D-EE5F386FD28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