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19299"/>
        <c:axId val="40743540"/>
      </c:barChart>
      <c:catAx>
        <c:axId val="30519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43540"/>
        <c:crosses val="autoZero"/>
        <c:auto val="1"/>
        <c:lblAlgn val="ctr"/>
        <c:lblOffset val="100"/>
        <c:noMultiLvlLbl val="0"/>
      </c:catAx>
      <c:valAx>
        <c:axId val="40743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19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331-BC04-4606-83A5-DF25396A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5FC-CC2A-4109-8E1F-D8B51365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062-17A4-4E99-9AF6-9AAACB48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03B-B346-422C-BBAE-C3215943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392-604F-4FF7-BA42-FBD17CF9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251-314F-4AFC-9B6D-1E7679E2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327-1BF2-465C-AFD9-C69F6B36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4A3-748A-4FB9-BAA7-73130ABF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31C-395D-46E0-9037-FA0F0185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394D-61FC-4A7E-BE2C-F37D52F6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478-F5AF-4E48-B615-A8298EEB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255-1C21-4B2A-B1BD-788BF8E4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E5DD3-3593-458F-9F8A-5ABF06362B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