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207792"/>
        <c:axId val="18551604"/>
      </c:barChart>
      <c:catAx>
        <c:axId val="642077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51604"/>
        <c:crosses val="autoZero"/>
        <c:auto val="1"/>
        <c:lblAlgn val="ctr"/>
        <c:lblOffset val="100"/>
        <c:noMultiLvlLbl val="0"/>
      </c:catAx>
      <c:valAx>
        <c:axId val="185516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077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3FE-0B17-4CEA-83E2-54A90662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1FA4-9CFB-4204-89F7-1D306508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6176-7A1B-4C01-BBCE-0BA9C3A0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9F55-1995-4814-AF95-C7F50C45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0C33-5361-48DB-B084-CCD2D0FA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6A9A-989D-42FF-BA14-4646601C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A1DF-92DE-471B-82E3-B807256F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1EE6-DAC0-4806-8908-2B45BFCF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E04D-4CCD-491C-AEE9-F15D58B2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AED7-D148-4848-BA8B-F1C9B05C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ECA2-630E-454C-860C-EA5B031D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A4F9-21A5-4BD9-AA36-B2EF8AF5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2D07F-5AF6-4A7D-94A3-6292D5F9AA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