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74122"/>
        <c:axId val="76085720"/>
      </c:barChart>
      <c:catAx>
        <c:axId val="51474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85720"/>
        <c:crosses val="autoZero"/>
        <c:auto val="1"/>
        <c:lblAlgn val="ctr"/>
        <c:lblOffset val="100"/>
        <c:noMultiLvlLbl val="0"/>
      </c:catAx>
      <c:valAx>
        <c:axId val="76085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74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028-AFBE-448A-9E63-354EF768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F41-7F87-4416-A844-2035197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051-88C4-4D8C-8742-D7D03F38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15E-BF60-46CC-82B5-AFFFBE5C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C88-0F4E-4650-816A-AF202085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282-95D9-4A0E-91B5-867A38C6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A46-4DCA-4CA4-9F3C-78A7E9BF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3FF-C981-4B96-B2AC-2D9B918F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FC2-7920-4B2C-9F53-C6C0392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31A-D890-450E-9299-D12C6A5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A82-1559-42F9-80E3-F2606156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9FF-FA61-4C6B-8405-2C635EC8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3457A-C808-44A0-A6F0-0147BB6B23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