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48407"/>
        <c:axId val="73772167"/>
      </c:barChart>
      <c:catAx>
        <c:axId val="20348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72167"/>
        <c:crosses val="autoZero"/>
        <c:auto val="1"/>
        <c:lblAlgn val="ctr"/>
        <c:lblOffset val="100"/>
        <c:noMultiLvlLbl val="0"/>
      </c:catAx>
      <c:valAx>
        <c:axId val="73772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48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83D-0797-49F2-B8D0-81CE965A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92DB-E35E-4378-9C4F-26B1E828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608-DB2E-47A2-B304-262AE430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05E-6E0B-4CE8-B80D-6A2D97D0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00B-2A35-412E-99DD-D03789BA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B85-E525-41C7-BDBE-D3E02AC4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FD5-A89F-4E53-829B-68787F9B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41E-0882-425C-BDE2-6F54B781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6CB-16E0-4DCE-88EC-EDE45E19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C9B-9714-4D1A-8A9C-6B010262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27B-B112-483A-9939-EC732087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A18-C539-4078-974F-0B6328E9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7AEC6-BD82-4E46-A234-73785724A1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