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071718"/>
        <c:axId val="97094257"/>
      </c:barChart>
      <c:catAx>
        <c:axId val="160717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94257"/>
        <c:crosses val="autoZero"/>
        <c:auto val="1"/>
        <c:lblAlgn val="ctr"/>
        <c:lblOffset val="100"/>
        <c:noMultiLvlLbl val="0"/>
      </c:catAx>
      <c:valAx>
        <c:axId val="97094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717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ADEC-0A23-41EF-96E4-2F0EE40D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E5F-DD0C-4DF7-BF5D-B2BCA299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7C8D-2A38-41FD-B5BA-59C8007E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51E-BE2F-4D32-B14D-06F6C2A2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61B-C4B9-4ED1-B7F6-16EF0E17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4CD-8A8C-46E1-B23C-779E976B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E4E-0FA7-4C2F-9C85-B169DC5C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A91-2D8D-41FF-BBFC-4A1DD744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D3F-0E3E-4E25-9A11-0B013A57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8103-158E-46ED-8800-3F0EF457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66BC-65AB-40CC-95C5-10F13128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6EF0-5085-4F57-9A4D-1D96D0A5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3E5A2-4ADA-4757-A98C-443979593D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