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57992"/>
        <c:axId val="55780267"/>
      </c:barChart>
      <c:catAx>
        <c:axId val="98657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80267"/>
        <c:crosses val="autoZero"/>
        <c:auto val="1"/>
        <c:lblAlgn val="ctr"/>
        <c:lblOffset val="100"/>
        <c:noMultiLvlLbl val="0"/>
      </c:catAx>
      <c:valAx>
        <c:axId val="55780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7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89A-9DCE-42D3-88C2-452FFF3D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233-731F-4E6E-9D79-D7A62C54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1B4-AD21-4815-8D99-D1FF48A3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15D-A6ED-46B3-B411-08C3B88F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9A-1620-4D54-87BE-1392914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48D-4DFD-4015-8AAD-DB1A117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9A0-D922-4434-9630-9ABD8055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8C9-59AC-44F2-AF6B-B17E13D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097-9994-4782-A6FE-C2FB890A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D8A-E1B1-4CB5-B5FF-03B4C7B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6A4-0E8B-479A-97AD-F27E0F5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4CC-6DF9-4795-AF79-7687AA8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F1252-A1D9-4258-9043-A060CE47B2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