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95126"/>
        <c:axId val="23788831"/>
      </c:barChart>
      <c:catAx>
        <c:axId val="18595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8831"/>
        <c:crosses val="autoZero"/>
        <c:auto val="1"/>
        <c:lblAlgn val="ctr"/>
        <c:lblOffset val="100"/>
        <c:noMultiLvlLbl val="0"/>
      </c:catAx>
      <c:valAx>
        <c:axId val="23788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5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DAB-A241-4AE1-9B5C-993AA4D1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A95-50F7-43D1-B9C1-7786C18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F9E-CAF2-4274-AB1F-F6B6B77C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834-2C8F-4F7E-BB5F-66FC8FD6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F34-EF48-44E5-B19B-CFD7DA6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BB6-99E8-4F2D-A145-EC45A6A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502-8AF3-41A9-9D98-9DD32136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FFB-D48C-4D85-9246-BBA11D5D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DFD-915A-4C5A-95BA-5E60E50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066-30A9-4069-A9C2-4203A37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621-AF79-44F6-B3FD-6523DDBA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B4E-3C84-435E-832D-EA7CF1E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B0141-E8CF-4DDA-8ACC-69C18A18A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