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77607"/>
        <c:axId val="1870029"/>
      </c:barChart>
      <c:catAx>
        <c:axId val="14577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0029"/>
        <c:crosses val="autoZero"/>
        <c:auto val="1"/>
        <c:lblAlgn val="ctr"/>
        <c:lblOffset val="100"/>
        <c:noMultiLvlLbl val="0"/>
      </c:catAx>
      <c:valAx>
        <c:axId val="1870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77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65C-8C92-4355-B196-B9AEC9A8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789-C1FA-4830-B85C-CD8A0761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ADA6-3B74-45B0-B0A3-7840A352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4DA-D9AD-4F4D-A47A-712E1116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8AA-95D8-432D-AA4D-B6617D6D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A35-96FB-4380-ACF8-B9426C19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C83-584E-4339-9216-5D636E71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D22-D308-4095-934E-059F6774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8B6-5AB1-4108-A680-CDEEF825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383-3FFA-42B3-A3CB-700662A7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B86-52B3-468F-8BEC-02E980F0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6DD-066F-4B2B-BD29-34D64815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7BBB5-8340-47CE-BA96-EC8A82DBB2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