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16089"/>
        <c:axId val="84491380"/>
      </c:barChart>
      <c:catAx>
        <c:axId val="221160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91380"/>
        <c:crosses val="autoZero"/>
        <c:auto val="1"/>
        <c:lblAlgn val="ctr"/>
        <c:lblOffset val="100"/>
        <c:noMultiLvlLbl val="0"/>
      </c:catAx>
      <c:valAx>
        <c:axId val="84491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160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0F0-9D78-436E-8DCB-1AD144A8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66F-4BA0-4FE0-879A-BFEC94F3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429-A5E3-4877-8BA9-3C5C54A7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C0AA-14D5-4E8D-A6A6-DB74D605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3E4-E81B-44BE-BC7B-FCFB83BA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67D-E77F-431D-9E78-05D6CA51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01EC-29DE-48C1-B700-98B1B368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1908-6F59-4C72-BB34-E61C4583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267-8447-4DA4-8096-6DC05FAA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68D-F3BC-4BC8-96D1-09208784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1EF-9B7D-4A4C-A873-2C8743C8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051-ECBA-44FE-B50E-2A3D79CD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9640D-EEA3-4C01-8855-857B1D7723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