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050386"/>
        <c:axId val="8512293"/>
      </c:barChart>
      <c:catAx>
        <c:axId val="860503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2293"/>
        <c:crosses val="autoZero"/>
        <c:auto val="1"/>
        <c:lblAlgn val="ctr"/>
        <c:lblOffset val="100"/>
        <c:noMultiLvlLbl val="0"/>
      </c:catAx>
      <c:valAx>
        <c:axId val="85122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503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3F88-6666-40D8-8F62-3370AE39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F549-0A9A-4655-9182-CCA10EB9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ED8A-B419-414E-8792-93467420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CB37-B57B-404C-B897-6D277DA2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AE33-0CBA-40AA-8A9A-0BC25A0A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14D3-17DB-4CB1-8EB1-5C2CBC6D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01B2-E55A-485C-9E57-6D16CBF8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D330-4F7C-422E-85BB-D9DB0F2D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E114-C7CE-4B0C-9709-7673EAEF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C169-0A9E-4F73-BB9C-46F4872D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CFB6-0556-46CA-A502-7216DBC7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F443-E006-447B-88A5-ED4740D5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3DAC6-384B-4F0A-AFB5-D487BCE65B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