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8616719"/>
        <c:axId val="53958386"/>
      </c:barChart>
      <c:catAx>
        <c:axId val="6861671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958386"/>
        <c:crosses val="autoZero"/>
        <c:auto val="1"/>
        <c:lblAlgn val="ctr"/>
        <c:lblOffset val="100"/>
        <c:noMultiLvlLbl val="0"/>
      </c:catAx>
      <c:valAx>
        <c:axId val="5395838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61671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6135-751D-4F50-84E7-7EC70F131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C413-1F4E-4FF7-AF3B-70D61490B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8635-0419-4E75-9312-A753C7E02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3B70-0B03-4992-944D-050A9637B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2CC8-B61D-4542-BAD8-869F27C77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3B4D-A2A5-4C58-AC18-8CA97AF67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264A-C0A2-4890-BF72-3F6638361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7FC1-7A12-4787-8A75-DF9F2C8A0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37F6-4A66-4907-B87C-E324760C1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6AE7-A9A9-4CA6-A6DB-3C9AF97F2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A74C-FEFB-4AC7-9D93-A5A677BC3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73A9-E644-4A2B-BC16-28CA3B18E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08E066-655E-4D8B-8F7D-F26C80D02B0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