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82232"/>
        <c:axId val="98989545"/>
      </c:barChart>
      <c:catAx>
        <c:axId val="65082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9545"/>
        <c:crosses val="autoZero"/>
        <c:auto val="1"/>
        <c:lblAlgn val="ctr"/>
        <c:lblOffset val="100"/>
        <c:noMultiLvlLbl val="0"/>
      </c:catAx>
      <c:valAx>
        <c:axId val="98989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82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605-66BD-42A1-8B4F-2BBA2B95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CE1-D5FD-4D52-BD5A-3A981D3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EFF-AF81-4ADC-88D9-35B8C14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7B9-C3D7-4536-B75F-C730612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B08-5837-40AC-B623-F41D02DA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581-DF47-4B83-897F-4A3226E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586-290A-4769-9417-A30DAD9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D59-EEEE-411A-8609-E5E163B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1AE-2551-4790-8DCA-26AD1E1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1E5-9241-410E-B4CE-ADC430A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997-9AC9-4D34-8354-1E62B69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51F-E8A2-4C2B-AE52-C126D03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43F95-A37C-41FE-85AA-1662EB7B1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