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0739"/>
        <c:axId val="81196742"/>
      </c:barChart>
      <c:catAx>
        <c:axId val="6230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96742"/>
        <c:crosses val="autoZero"/>
        <c:auto val="1"/>
        <c:lblAlgn val="ctr"/>
        <c:lblOffset val="100"/>
        <c:noMultiLvlLbl val="0"/>
      </c:catAx>
      <c:valAx>
        <c:axId val="81196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0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DE2-5F35-4C86-89B6-CB90402E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E67-BA8D-422B-9D74-DEA9B13F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54F5-123B-4B14-89C7-D031FC69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D20-3097-4708-B0B4-816A6135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090-53E3-4F58-9459-A93C5A9E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BAA-E2B2-4867-9AC6-4FFE3EA6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4A8-BEB0-4DD7-85FB-8BA5DCB0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188-73C0-450D-9FB1-2F698AD3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CB9-C69F-479F-8C09-714E2808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B06-CC9F-479C-AE77-4D5A431E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298-C895-4315-9EB6-917F638F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F2E-944B-4B3A-9538-C98956D9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D8C3B-9879-479A-8564-96122FED99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