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1319"/>
        <c:axId val="9695963"/>
      </c:barChart>
      <c:catAx>
        <c:axId val="1331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963"/>
        <c:crosses val="autoZero"/>
        <c:auto val="1"/>
        <c:lblAlgn val="ctr"/>
        <c:lblOffset val="100"/>
        <c:noMultiLvlLbl val="0"/>
      </c:catAx>
      <c:valAx>
        <c:axId val="9695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1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B48-08B5-4F92-85C4-6235A12E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66E-7A46-400B-B1EA-F4A06306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A32-8624-40B5-B089-2D67A667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CEC-1FB2-4C70-9AE7-CD507897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94C-4B38-4BC3-9F1D-2C9FCAB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827-7459-4A0D-AD82-2FC59037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5A8-8686-47AE-A276-626CDF3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BD4-95FE-4BF8-839D-668ACE78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2BB-F7B0-49C3-BB85-A1FD2B5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721-162E-4087-AFB8-8668474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FA0-37B4-43B8-AEE7-17B2890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3C8-D3D1-4F6A-A964-B097F8C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E5F5A-6B9C-4CF4-A832-6E64DF8D88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