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20175"/>
        <c:axId val="29012469"/>
      </c:barChart>
      <c:catAx>
        <c:axId val="12620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12469"/>
        <c:crosses val="autoZero"/>
        <c:auto val="1"/>
        <c:lblAlgn val="ctr"/>
        <c:lblOffset val="100"/>
        <c:noMultiLvlLbl val="0"/>
      </c:catAx>
      <c:valAx>
        <c:axId val="29012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0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E15-FBBF-4F29-A924-962981B9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6A0-53F3-4169-B1CA-3C45388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39D-3ACF-4C4C-BCC9-EE7F0E05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F1C-5218-45F3-81D2-2AEDC6FD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8A9-1516-4629-BF34-3F089F95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331-0405-4963-85D6-9A364DD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1D2-1733-44F7-87E6-2EF584F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3D0-DBB6-446E-949B-155399A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F88-09C2-48CA-B3C5-63384DDA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094-D7B2-446A-BA83-96038D8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49B-8C28-4A24-88CC-9275A8B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F22-17BF-45E2-B0EC-8624F41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93E3-260F-4F8A-BE80-F290B2E2D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