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49725"/>
        <c:axId val="98656697"/>
      </c:barChart>
      <c:catAx>
        <c:axId val="63249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6697"/>
        <c:crosses val="autoZero"/>
        <c:auto val="1"/>
        <c:lblAlgn val="ctr"/>
        <c:lblOffset val="100"/>
        <c:noMultiLvlLbl val="0"/>
      </c:catAx>
      <c:valAx>
        <c:axId val="98656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9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162-E976-4D5F-97A5-9D829ED9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299-B33B-4BFC-9B8C-1E2EA35E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B6A-EB4F-42F3-90AB-031EC78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658-9D85-472A-BEBA-C3B553F7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46B-69F3-4D78-87EA-B66245AC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D5B-0E4D-496C-8774-EC80D8C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991-7595-4C5E-973E-0C26EAC2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0DE-7540-473F-90E4-EF26D0AE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612-FACF-4C28-9C81-1D974102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4CC-A228-4CE2-9F93-9A082BA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AD5-317F-453F-A6DF-DA8C3D4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211-2619-456B-8465-5ACEAA2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546E5-1EDE-4AAC-8FBE-BAA9FEF9A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