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14387"/>
        <c:axId val="97860032"/>
      </c:barChart>
      <c:catAx>
        <c:axId val="93014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60032"/>
        <c:crosses val="autoZero"/>
        <c:auto val="1"/>
        <c:lblAlgn val="ctr"/>
        <c:lblOffset val="100"/>
        <c:noMultiLvlLbl val="0"/>
      </c:catAx>
      <c:valAx>
        <c:axId val="97860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14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D6D-CC07-4184-94F9-A49F86A4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C4E-9422-4434-A6C4-852A2C24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E64-1C9D-4541-A5AB-3AF6F821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084-C394-4C05-B6F3-4700BB18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274-0C57-4E27-8255-C27194C2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781-86F8-4A7C-9A7B-9E8C764B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A71-423F-4ADB-BC48-9E48403B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785-17C0-4F3A-AF78-A7EE79ED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B5B-CFB1-424F-A9CB-59DF59F3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585-9C31-4A33-A9AD-3268B690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D66-8DC3-4B5F-B141-E9865029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905-DE7B-42F9-8C00-6AD3EA4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803AA-2FFE-442B-AE98-C43A4B8BC7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