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51140"/>
        <c:axId val="54528891"/>
      </c:barChart>
      <c:catAx>
        <c:axId val="26251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28891"/>
        <c:crosses val="autoZero"/>
        <c:auto val="1"/>
        <c:lblAlgn val="ctr"/>
        <c:lblOffset val="100"/>
        <c:noMultiLvlLbl val="0"/>
      </c:catAx>
      <c:valAx>
        <c:axId val="54528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51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C5A-73CE-41E2-9B99-9E000C97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7DA-321F-41FA-954B-1CDCD525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7D4-A88D-488E-ACA1-EA572BBB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F30-7F6B-436A-8815-0019850C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563-82DC-4B9C-B7A6-9C0B43FD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15F-F59F-46A8-96A2-CE32429A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7C8-C0BA-47A3-B434-2F15CE84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636-A2D6-4AE4-8AEB-57B409CD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5D1-C270-4A0E-BDBC-7EB00151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920-8231-4831-AA73-A3ECFAA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5CC-8A8F-4FBC-92A3-6903765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864-D54F-4EB4-8445-68842524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FAC17-F220-495A-A760-3DDC8DB8AF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