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84630"/>
        <c:axId val="70784780"/>
      </c:barChart>
      <c:catAx>
        <c:axId val="34384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84780"/>
        <c:crosses val="autoZero"/>
        <c:auto val="1"/>
        <c:lblAlgn val="ctr"/>
        <c:lblOffset val="100"/>
        <c:noMultiLvlLbl val="0"/>
      </c:catAx>
      <c:valAx>
        <c:axId val="70784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4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2FB-503A-4845-9612-16EC285B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DF0-2B07-4BD7-A42E-CD71632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BD9-EB2F-4D73-8124-FF1DAC0B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C41-DF1C-4FC3-BE0A-87A5CCC6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37D-EFF0-4C2B-BB4B-60DD49B7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868-F36F-42D2-A501-92CEAFBC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6F2-7F81-4BDB-8DCF-7C2AF58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C8D-2162-4BC4-AA26-4CA9C311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766-A317-49EC-8528-A9348E7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E54-7634-4771-8432-4381EAF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FD9-41C1-4E5F-9A8E-80413C4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F42-47AB-4E8F-B659-B059270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0641-4E71-47F7-B253-8378A05C2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