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22226"/>
        <c:axId val="2291290"/>
      </c:barChart>
      <c:catAx>
        <c:axId val="34822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1290"/>
        <c:crosses val="autoZero"/>
        <c:auto val="1"/>
        <c:lblAlgn val="ctr"/>
        <c:lblOffset val="100"/>
        <c:noMultiLvlLbl val="0"/>
      </c:catAx>
      <c:valAx>
        <c:axId val="2291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22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8D1-368D-41B9-A140-87054718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FE8-4059-4A8F-B21B-50567052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4B8-A845-4CAF-92CF-3DE52617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B90-973A-4096-AB7F-27C77A33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7F7-3C84-428F-8F6A-1EB4E35F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8F3-E3FE-4C44-832C-1473D5FE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61F-D438-41D6-96AB-DB2C8888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FCE-1947-4583-8404-CE2C0BCE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963-02E9-435B-B52B-CBA214ED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95C-97FF-4B1D-B6EB-B412B46D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66F-43CC-4985-829A-C83248B1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0B3-D8EA-4B2B-AAC3-D34F205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F5831-D99D-4E88-9293-788661A098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