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279653"/>
        <c:axId val="52622112"/>
      </c:barChart>
      <c:catAx>
        <c:axId val="532796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622112"/>
        <c:crosses val="autoZero"/>
        <c:auto val="1"/>
        <c:lblAlgn val="ctr"/>
        <c:lblOffset val="100"/>
        <c:noMultiLvlLbl val="0"/>
      </c:catAx>
      <c:valAx>
        <c:axId val="526221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2796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8401-E72E-4A5F-8B90-513E0D5FC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19ED-CBFE-4796-811B-1673840C6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8E2E-2CA1-4E84-A7E6-3F07A0D9C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6E88-634D-45D3-98F8-89C622B75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1346-A447-45A2-B686-0BCBAE33A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93F1-FD13-4AAD-82A2-5D671B2DE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59A4-26C4-4BC6-B8E1-3B5FD226A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58EA-E6D0-482A-8DB2-22C1C6CCC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717C-D10C-4BA2-A8BC-1CD647622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7E1C-E4D9-43CB-9FFD-4DE3AB9A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FEC9-0A2F-4EE7-805A-AAD2DE1E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BB4F-4C94-41EE-AFED-52F6ABE7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29DF8C-A037-4B5C-8A5B-AD1D7126713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