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393105"/>
        <c:axId val="74714960"/>
      </c:barChart>
      <c:catAx>
        <c:axId val="493931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714960"/>
        <c:crosses val="autoZero"/>
        <c:auto val="1"/>
        <c:lblAlgn val="ctr"/>
        <c:lblOffset val="100"/>
        <c:noMultiLvlLbl val="0"/>
      </c:catAx>
      <c:valAx>
        <c:axId val="747149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3931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964F-6FA1-4D9E-8590-F6E8C22B0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AF79-B78C-41D4-99B4-065380CA9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41BA-A94B-4B77-8F38-2B57FE2CE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8478-019D-4F93-A628-6E8BAE028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A5BD-40F9-4B9F-8783-92992090C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4C8A-1535-49AB-89B7-FD3806D82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CC41-4A2F-484E-A7E5-C5B607F90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E6E5-A166-4084-ACF2-C9F659EB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C18D-4B2F-4A54-9ABD-56B3747B0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A0BE-6297-4B3D-AF36-E057DA34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622F-718E-4B5F-AA5A-152DC4AF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B4F5-8E02-4803-9CF3-F83EE61A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419197-CCC1-4CD6-9216-14FCE76EDB1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