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48396"/>
        <c:axId val="61187332"/>
      </c:barChart>
      <c:catAx>
        <c:axId val="35648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87332"/>
        <c:crosses val="autoZero"/>
        <c:auto val="1"/>
        <c:lblAlgn val="ctr"/>
        <c:lblOffset val="100"/>
        <c:noMultiLvlLbl val="0"/>
      </c:catAx>
      <c:valAx>
        <c:axId val="611873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48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8D4-ADEF-4EDE-888A-22A93704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687-01A7-4004-AAD8-A833F406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3D1-F06A-44DD-9D58-28558FCA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D64-2AA4-4A5B-A9A9-FCD13604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EC74-A585-411A-A125-93CF975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F42-080B-49F8-A534-2FD8F15C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190-3D1C-4985-923A-73BA745F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1D6-5848-4DD8-B2BA-64843E9F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792-ABF9-491A-8542-5D3E680F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DB1-D52D-4F9E-9EB4-B4C69B2F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1F81-AC8F-4352-8F4D-D4E5BE4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EDE-1B61-4B0E-9883-8B09F43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252B2-DB00-4B68-BA9B-81B74FFC9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