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28156"/>
        <c:axId val="26130253"/>
      </c:barChart>
      <c:catAx>
        <c:axId val="39528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30253"/>
        <c:crosses val="autoZero"/>
        <c:auto val="1"/>
        <c:lblAlgn val="ctr"/>
        <c:lblOffset val="100"/>
        <c:noMultiLvlLbl val="0"/>
      </c:catAx>
      <c:valAx>
        <c:axId val="26130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28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980-310B-42C0-914D-32464289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41F-75E8-466E-BB71-AD3A1C1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7AB-306A-4948-8E19-9691EAB9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28E-C853-4314-A33F-9D27D680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E26-EE2F-446A-80EA-790F519F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AFB-4E36-4124-A2A6-F3ACC75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933-8162-44FA-B771-4841A5B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357-2337-4E99-8070-77432734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84C-21DC-4F63-98D1-D966D6CF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81C-2E6F-41DA-85B6-9BF0713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D79-544A-48C2-A613-9FE0FEC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72E-1DA6-4579-9564-1A06896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72218-DBAC-4F0F-9EB4-C0CEE4A31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