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88391"/>
        <c:axId val="24525815"/>
      </c:barChart>
      <c:catAx>
        <c:axId val="17688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25815"/>
        <c:crosses val="autoZero"/>
        <c:auto val="1"/>
        <c:lblAlgn val="ctr"/>
        <c:lblOffset val="100"/>
        <c:noMultiLvlLbl val="0"/>
      </c:catAx>
      <c:valAx>
        <c:axId val="24525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88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A5C-B19A-49C2-B261-B95D9ABA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73C-F254-4AFC-84F8-89BA440A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5D2-BA51-4C6E-9B37-357F7BD1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D95-5FCB-4C17-82D7-43A27706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1AC-9C66-47AB-957C-4ED2B235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6B4-C9AF-4271-8030-C9432D09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5B7-4ED9-4FB4-A643-B6B00731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0EB-71F0-4703-B2F0-FD223902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31C-DA74-4B79-888C-957013AC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A5AA-0E6C-478E-835B-64BC2C94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E9B-24DD-45E9-BE94-A06CC8CD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730-A3DD-4780-966A-268D36D6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B803F-D53E-4BCC-93BE-57F47CF610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