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29840"/>
        <c:axId val="63030559"/>
      </c:barChart>
      <c:catAx>
        <c:axId val="79129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0559"/>
        <c:crosses val="autoZero"/>
        <c:auto val="1"/>
        <c:lblAlgn val="ctr"/>
        <c:lblOffset val="100"/>
        <c:noMultiLvlLbl val="0"/>
      </c:catAx>
      <c:valAx>
        <c:axId val="63030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9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B05-2482-4C80-9BD0-3E0D3916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449-B2DE-4819-95A7-EA2F326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494-675D-46C3-83C6-7AD2646B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5C3-B0E9-4214-A0A3-A2035DB8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4BA-F34C-494A-B73A-6E324216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EBD-3A58-46E3-B9C2-7491F4B9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67F-7A5A-4DFF-A1AB-474BE25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F78-28C8-456C-B85E-0D000CB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259-06B5-4525-AC2A-5390333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546-178F-451F-B05F-BF0F765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D59-07A7-4921-B2B5-C97555B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033-9C34-4B3B-9DAF-F2AED8D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C50B-A7B5-47C9-885B-E57690F28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