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36309"/>
        <c:axId val="65735588"/>
      </c:barChart>
      <c:catAx>
        <c:axId val="76836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35588"/>
        <c:crosses val="autoZero"/>
        <c:auto val="1"/>
        <c:lblAlgn val="ctr"/>
        <c:lblOffset val="100"/>
        <c:noMultiLvlLbl val="0"/>
      </c:catAx>
      <c:valAx>
        <c:axId val="65735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6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1F8-BDAE-488E-9809-F10A849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8D8-CEDC-4B55-8937-C1243F0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61F-E092-4CD0-9A7C-2BC81CAF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F8F-D1E2-47AC-8492-654E60F9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411-5AB7-4BA0-8351-E054AC7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07C-871E-4A2C-BAEA-0921784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F50-244D-4806-ADF3-6C7F0B5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40C-59EC-49A2-B352-614EAD10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F23-2B8C-41AF-8454-027C443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FC5-B576-43E8-8372-13814F6B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B41-D48E-48E0-8B1B-FD57608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431-1C0B-430A-BA48-F8B5C66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578D1-DE3F-409B-99A2-32C424033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