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666673"/>
        <c:axId val="49521718"/>
      </c:barChart>
      <c:catAx>
        <c:axId val="376666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521718"/>
        <c:crosses val="autoZero"/>
        <c:auto val="1"/>
        <c:lblAlgn val="ctr"/>
        <c:lblOffset val="100"/>
        <c:noMultiLvlLbl val="0"/>
      </c:catAx>
      <c:valAx>
        <c:axId val="495217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6666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5F3B-0882-45C9-8BE2-23FAD7712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6065-DF35-443D-8DC8-4CF408146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3A95-B343-4863-8BC3-634ED2D5B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7452-1985-4B6A-BCFD-A71792459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694F-C8BC-4B75-B3EF-B99F75CF9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A4F8-A47A-4811-AFCF-46F74FE5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D0A9-64AD-4258-BF1A-2B57B6710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3F7F-9F61-4F1A-A35B-070C331D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D806-431A-4E08-9B55-96D032AC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C6F5-2508-4A91-8BA9-EB09029B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39A6-6C41-4868-8F9A-EF83830AF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D2E2-3718-4459-834F-97A5FBF1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F030EF-E59D-4599-976B-E8137F2609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