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11130"/>
        <c:axId val="78038453"/>
      </c:barChart>
      <c:catAx>
        <c:axId val="58311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38453"/>
        <c:crosses val="autoZero"/>
        <c:auto val="1"/>
        <c:lblAlgn val="ctr"/>
        <c:lblOffset val="100"/>
        <c:noMultiLvlLbl val="0"/>
      </c:catAx>
      <c:valAx>
        <c:axId val="78038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11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C44-9B56-47FA-838C-CC5368B8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C57-16FA-409A-BC39-E77D377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558-021B-4E9A-9EEB-8E168FE9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3AD-049D-4843-85E1-75AA90D0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D29-647E-4F63-9433-A52C5CA5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B4C-13AB-47F8-B8B8-2C6B5A40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C44-F617-46B6-871A-E7ADEC7A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E3E-4986-4D90-8DC3-9773EC88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00D-C659-464E-8119-9DECA454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BB5-0E0A-47D2-9064-F703D9F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6EE-C25A-461C-AEAB-93A51FF4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158-F2EC-48B7-BD22-993D4D4E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82E39-B847-4F99-B959-43C37FC8F2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