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80823"/>
        <c:axId val="76138300"/>
      </c:barChart>
      <c:catAx>
        <c:axId val="81580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38300"/>
        <c:crosses val="autoZero"/>
        <c:auto val="1"/>
        <c:lblAlgn val="ctr"/>
        <c:lblOffset val="100"/>
        <c:noMultiLvlLbl val="0"/>
      </c:catAx>
      <c:valAx>
        <c:axId val="76138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0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BBD-3A3B-481E-ACC5-C482846F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7BF-8749-403F-8412-7E2FC2A5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E9B-065D-42F8-9B04-30665A71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EBE-924D-4902-8460-1028DD11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7E0-FADC-4707-9E05-F6B0A68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260-837B-40C1-87FD-EAD4B7B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08F-CDCF-4FD8-8531-E26A01E9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85D-F50B-481F-9870-EE38878D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A16-CD12-46C0-BC19-97D372ED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2B5-32A7-4EE7-802F-F8B93DF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4D4-1F04-4CF6-AF29-1247BA1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6F2-F9B6-42BA-9140-640FF01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FBCE-7F12-4DAA-A446-59325D06E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