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7139"/>
        <c:axId val="99507885"/>
      </c:barChart>
      <c:catAx>
        <c:axId val="8047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07885"/>
        <c:crosses val="autoZero"/>
        <c:auto val="1"/>
        <c:lblAlgn val="ctr"/>
        <c:lblOffset val="100"/>
        <c:noMultiLvlLbl val="0"/>
      </c:catAx>
      <c:valAx>
        <c:axId val="99507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B6C-7C25-448F-B643-ECC76A8E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A9B-9D96-4A73-9707-741A1530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9E4-4156-4C74-AEC4-B7D5678B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3E5-BF35-4B83-B6B4-7BFA7117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108-2B58-40C9-B94E-409E9448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2F9-08AA-488F-8AC0-F6B80AA5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104-67D6-4E7A-9FF4-05224A3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A0A-5177-4F38-BB23-D240EF7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F1D-DB9A-4A24-8802-FB246A9E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AE9-1D1A-4899-9836-2B3E7F84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CB6-BFD1-4B33-884D-AF4A14C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18E-551D-4C5F-93E7-B7B26CD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C9EA4-8328-42D1-819F-AA62829E70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