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382301"/>
        <c:axId val="73376018"/>
      </c:barChart>
      <c:catAx>
        <c:axId val="673823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376018"/>
        <c:crosses val="autoZero"/>
        <c:auto val="1"/>
        <c:lblAlgn val="ctr"/>
        <c:lblOffset val="100"/>
        <c:noMultiLvlLbl val="0"/>
      </c:catAx>
      <c:valAx>
        <c:axId val="733760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823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A50-3460-4489-AFE7-29B05E69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CB22-7B92-4669-94B2-A66CCE7CB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0C16-49A2-495F-9CA2-DC13D0237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FC10-D0ED-4F47-A717-2EE41C609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4261-9487-4897-AFF7-EFE9445A1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8FFE-E57B-4D00-A579-F5F4A7B5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38C-EE13-4A69-9082-21920BE1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A02-BAE0-4D15-9BED-8B45F5C1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CD8D-0DAE-46D9-BDBE-1B695694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48F0-A559-462C-A56A-EEDA7938B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A215-1984-4A59-8166-A6108EA75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E490-3745-4106-99C3-234B36A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2961D-FD3C-4474-8361-1CFB6ED5E3C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