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4692"/>
        <c:axId val="6166342"/>
      </c:barChart>
      <c:catAx>
        <c:axId val="52384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342"/>
        <c:crosses val="autoZero"/>
        <c:auto val="1"/>
        <c:lblAlgn val="ctr"/>
        <c:lblOffset val="100"/>
        <c:noMultiLvlLbl val="0"/>
      </c:catAx>
      <c:valAx>
        <c:axId val="6166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4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C00-351E-44FB-B703-E4FD249A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C0B-8DFB-42CD-914A-0401E433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A07-9C5C-4D63-AF48-1FB76F5E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D5B-5DDA-45DE-8C5D-135BF290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DC0-7320-4618-9C2D-0CCBC8B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C13-C771-4068-A889-B783447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782-741E-4955-A930-20548A7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FD0-F24E-4B9E-84E7-7BEA426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41F-73DE-4BD4-B283-9C610A8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BBE-B8F0-4992-AA50-F43E383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FFE-B855-45DA-8254-3C3B7ED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680-D84F-4775-BCD5-A9EBA90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F3845-7BE1-4ACC-BDDD-07776D397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