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79388"/>
        <c:axId val="18424033"/>
      </c:barChart>
      <c:catAx>
        <c:axId val="96879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24033"/>
        <c:crosses val="autoZero"/>
        <c:auto val="1"/>
        <c:lblAlgn val="ctr"/>
        <c:lblOffset val="100"/>
        <c:noMultiLvlLbl val="0"/>
      </c:catAx>
      <c:valAx>
        <c:axId val="18424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79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2BF-9D68-4B61-93B4-E6038145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A53-18B1-4FB7-BD9E-6138FE79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28E-B65C-43EB-BE76-3B5DA38C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BB8-22C2-45A1-A9E4-AD2C0F85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491-8E40-4B1F-915B-514E2EA3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B52-2BE2-4DF8-BF09-B8927A17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0EC-96E8-4AAF-B622-DB2CE7A6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013-CE28-427B-AE67-024C81F9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A50-E621-4CE2-B4D1-4A2C47B2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A04-245E-44EF-BE74-F404E56D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CE2-6EC6-419B-9E80-A4CC0A02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C0D-ADE3-489B-ACB6-69564A4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18FC6-FAC6-4DDE-A61E-C953C052FD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