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381451"/>
        <c:axId val="68632921"/>
      </c:barChart>
      <c:catAx>
        <c:axId val="963814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32921"/>
        <c:crosses val="autoZero"/>
        <c:auto val="1"/>
        <c:lblAlgn val="ctr"/>
        <c:lblOffset val="100"/>
        <c:noMultiLvlLbl val="0"/>
      </c:catAx>
      <c:valAx>
        <c:axId val="686329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814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EDCD-635B-4D0F-A0D4-BE67DA71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0E4-0BFF-485A-A0F5-70C8A7FE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4C67-F420-4F2C-954A-973C4B50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EB48-3D1A-4F49-8020-47F2D1EC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73F5-0463-4898-A82F-0771AD7C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5073-C79E-491B-8F2B-B73645A3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5687-49DA-4278-9A34-0335CD0A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86C4-EE56-49A0-91A3-CF189E9F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8815-593C-4312-9034-0A726E24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4C6F-0AC2-4F81-AC56-4EDE61D7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919C-9A6B-49AE-B88D-0E798D57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43CD-DD94-400B-8120-5BAA7612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AC6CA-3791-46E5-B9C4-AA969F7DB8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