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36056"/>
        <c:axId val="76628713"/>
      </c:barChart>
      <c:catAx>
        <c:axId val="56436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28713"/>
        <c:crosses val="autoZero"/>
        <c:auto val="1"/>
        <c:lblAlgn val="ctr"/>
        <c:lblOffset val="100"/>
        <c:noMultiLvlLbl val="0"/>
      </c:catAx>
      <c:valAx>
        <c:axId val="76628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36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5D3-AADD-4E99-99C2-926A15CC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70A-C085-435E-91B3-44639320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706-B9A1-4FCE-9E35-001048B2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027-ACDC-4BB8-BD1C-CBBB50B5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8D0-7A41-4ED4-8D1D-410B66A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85D-639B-45F7-B539-D738726D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E9B-8021-4F0E-A4D4-DE5F8B2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89A-3468-4241-9D9E-B28BE197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7F2-12E7-4600-9FAD-A09B17B1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D05-9B80-41D7-B0E6-4894EB7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205-EB0D-44F9-945F-00BD52D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0D8-FAC6-422D-97E4-08C62D8C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78A6E-7657-44EB-B405-DF1058126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