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53175"/>
        <c:axId val="81758651"/>
      </c:barChart>
      <c:catAx>
        <c:axId val="89053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58651"/>
        <c:crosses val="autoZero"/>
        <c:auto val="1"/>
        <c:lblAlgn val="ctr"/>
        <c:lblOffset val="100"/>
        <c:noMultiLvlLbl val="0"/>
      </c:catAx>
      <c:valAx>
        <c:axId val="81758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53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7EE-2993-4DED-AFA0-6E54D640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89D1-CC77-4FD9-920E-2F54915C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8BC-5EE8-4BF4-948D-743F5652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92E-08F6-4741-B683-599C1FA8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0C5-0A57-44F3-A457-FBD0929A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4137-B5FA-4EA8-96DA-73774B7B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FC6A-FF61-4AA2-8D7E-A2FCBF68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AA6-C0EA-4731-BEA8-42E8F8DF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9C23-B40F-4EB9-A68E-F7A20FC1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CF6-19BF-4C65-A3F5-594B7254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F91-2627-40E8-B05F-6043D2EE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88AA-4BFB-4877-A156-6B034B4B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CE977-5107-47CA-AEC4-4EF53FC1FE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